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675-8E10-4DA4-AEFB-FC4B96DE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DA5-A725-43EC-9200-1F58EF0F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A7D-A178-4CE7-A953-373C250C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AF1-DE7A-4DDC-B32F-9377A8D5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278-1B53-4C5F-8C64-58A55D4F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25D-2AB0-4AA9-A1E3-BE6264CF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BCE-B7BD-42E1-B1A2-3C2738D2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AC6-161F-47A6-830B-5BD7D1B9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E9E-B0CC-46F0-B86D-7941A72D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661-282C-451C-B9A5-65819A80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DE6-BCDE-42CA-B9E8-A9CBFAD4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F47-930C-46CE-BDA5-BC5A046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329E-CB4E-41FD-ACBE-9DC37988D5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Practice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42920" y="1285920"/>
            <a:ext cx="450036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φιλεις τον θεον, σοφος ε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ἠκουσεν οὐκ ἀν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αν ὁ βασιλευς ἐξελθῃ, οἱ δουλοι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το εὐαγγελιον κηρυσσεται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αιρε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ἀκαθαρτοι ἠμεν, οὐκ ἀν ἐν τ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ἱερῳ ἐκαθη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αν ἐγω δω σοι, δωσεις οὐν συ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ο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357800" y="198612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you (s.) love God, you are 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357800" y="24289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he had heard, he would not have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357800" y="287172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the king goes out, the slave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ll be rel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357800" y="37576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the gospel is preached, rejoi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357800" y="46576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we were unclean, then we would not sit in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4371840" y="5543640"/>
            <a:ext cx="45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 give to you (s.), will you therefore give to 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Practice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42920" y="1285920"/>
            <a:ext cx="45003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θοντος δε Ἰησου οἱ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ασκαλοι ἐθαυμαζ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γαρ ἐβλεπον ἐπιστευον ἀ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δε βασιλεως ἀποθανοντο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λθον εἰς την Γαλιλα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μερας γενομενης ἐλαλει τ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ὀχλ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αν τα δαιμονια ἐκβληθῃ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ὐχαριστησ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γαρ λογου κηρυσσομενου 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κουοντες ἐπιστε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314960" y="192888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Jesus came, the teachers we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ma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313160" y="265752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t they see they would beli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313160" y="30430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e king died, they went int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327560" y="3749760"/>
            <a:ext cx="50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day came (happened) he was talking (began to talk)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343400" y="448632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the demons are thrown out, we wil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j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343400" y="521496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while the word was being preached, those who were listening bel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142920" y="1285920"/>
            <a:ext cx="450036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υ δε ὀντος ἁγιου παντε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φοβουν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ὁ νομος οὐκ ἐδωθη, οὐκ ἀ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νωσαν την ἁμαρτ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she came in the angel sai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her, ‘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he is holy he will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were day we would not be afr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he had been raised everyon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s amazed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42908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ce he was holy, they all were afr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429080" y="286056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the law had not been given, the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uld not have known 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Practice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430880" y="372888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ης εἰσερχομενης, ὁ ἀγγελο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αὐτῃ∙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4444920" y="4614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αν ᾐ ἁγιος προσκυνησει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4459320" y="506736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ἡμερα ἠν οὐκ ἀν ἐφοβου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473720" y="551340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υ ἐγερθεντος παντε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θαυμαζ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2920" y="1285920"/>
            <a:ext cx="450036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ιδασκαλος ἠν καθημενος μετ’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προφητῃ ἐστ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εγραμμε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ἠν Ἰωσηφ ἐνδεδυμενο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λον ἱματ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ιμωμενος δε ἐσται ὁ προφη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eacher was sitting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313160" y="286056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written in the prophet. (Perfect participle – it stands written, it has been wri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314960" y="422928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Joseph was wearing a beautiful gar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313160" y="5100480"/>
            <a:ext cx="54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rophet will be hono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3 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Practice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42920" y="572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COMPARISON AND FORMATION OF ADJECTIVES AND AD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85840" y="1228680"/>
            <a:ext cx="4000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γιωτ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αχιστο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κωτε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νηροτατ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ιζον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ἱκανω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2143080" y="19922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lative Adverb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djective Neuter Nomin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ccus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157480" y="308448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lative Adjective Neute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sculine D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157480" y="36432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arative Adjective Neute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sculine Genitive 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157480" y="41990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lative Adjective Masculine Nomin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157480" y="474336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arative Adjective Masculine Accusative Sing.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ccus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2155680" y="584352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2:25:55Z</dcterms:created>
  <dc:creator>Sarah</dc:creator>
  <dc:description/>
  <dc:language>en-US</dc:language>
  <cp:lastModifiedBy>Sarah</cp:lastModifiedBy>
  <dcterms:modified xsi:type="dcterms:W3CDTF">2009-03-03T23:36:14Z</dcterms:modified>
  <cp:revision>8</cp:revision>
  <dc:subject/>
  <dc:title>Slide 1</dc:title>
</cp:coreProperties>
</file>